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1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76120" y="696960"/>
            <a:ext cx="4638600" cy="34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0" y="8816760"/>
            <a:ext cx="30290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6760"/>
            <a:ext cx="30290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4704-5115-489D-A74C-6E61AF957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6DB3-82BF-41F2-8F57-103D6C949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5EB7-1691-41CD-9BB7-ECC98ED86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B9AA-9D70-4252-96E8-F8A806BC4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F56A-3818-4372-A906-D659347DF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6D1E-014E-4E72-B817-14BE30FA8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F252-CCD9-41F5-9A78-4013E0CB4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02BF-240B-47D1-A4BF-12C5028F0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C134-49F1-460A-9AF0-12B5FF08A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8F60-55B9-4FCA-9135-0EE3E9CD0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9CD2-EE21-4166-9D01-78D74B772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2DE2-4196-4A36-84A7-B88F8814D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E2AE-75A4-4433-85D4-F36DACE24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BC88-001D-4870-895D-A426EE80E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1077-D900-46D6-8C1B-3BAF1B6ED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6428-CD1F-4F4B-802A-3587E3787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00FB-62EB-42D6-9E22-8680F4D45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88DD-7E51-4CDC-8D96-A4EB0AE2C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ED36-0CAD-4AE1-8145-1CD5540EB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62D9-1B77-49AA-8505-C49F8B6D6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1117-1CDD-4734-B3B8-7A156CBA6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2021-DD94-4ED3-879E-BE9F66D5C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0287-675B-4DF7-A216-52A775B40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A29B-BF4C-4DBB-841B-17E12AC39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E25C-EE7C-41BD-8755-F0836BD2D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8C24-92C3-4BB6-8AAF-B4E891614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68F8-57B1-4F87-AF99-1D7BA5013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4F7F-DB70-43EA-A7B3-CBD679DDD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B9480-AD1D-49E0-ADEC-6FDE296F11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07E33-E9AB-47BE-A7AE-F8F1F98F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33C96-2392-42E1-B674-4008BE35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33261-5672-4400-9DE5-E84F796B72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E3A48-156C-4657-8BED-ADEF72E9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3D80B-826E-4A57-A209-59437D20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44C1A-6AD7-44A9-80DE-1DD2E16E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9830C-5851-4AB0-BC75-CB939629D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EADAF-7F18-410C-8BCA-AA707B10C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3EE19-70D6-44FC-ADC2-659F9E28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43EA6-56A0-40D7-9AAA-F27AE1C7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61892-F8E0-47EE-87D9-F280A506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0B5E-9161-4EF9-A4CD-5A3165990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6331-09A2-4C44-BAC6-FFCDD0D3E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6104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School District Budgeting 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4191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AE86-1701-41DC-925B-657133BAC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udgetary Reform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ne Item Budge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gram Budge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ro Based Budge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A040-D83F-4ACC-9CC1-732309CD4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chool Site Budgets Using the Evidence Based Adequacy Mode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school characteristic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students by gr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cent free and reduced price lunch eligible (or poverty measure used in your st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cent English Language Learners (EL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cent of students with disabilities that qualify for special education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098D-255F-4BA5-AF16-47A51A6D5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chool Site Budgets Using the Evidence Based Adequacy Mode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Example using an Elementary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nel Resour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e tea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-3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: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5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:2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st teachers @ 20% of core teach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ional facilitators/coaches (1 per 200 student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tors for struggling students (1 per 100 poverty student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843F-2B09-4AD6-8FC6-B36EE600A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chool Site Budgets Using the Evidence Based Adequacy Mode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nel Resources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ers for ELL (1 for every 100 ELL student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ed day (1/2 poverty enrollment at ratio of 1:15 at 0.25 F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er School (1/2 poverty enrollment at ratio of 1:15 at 0.25 F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C2CD-282E-4A16-8C9C-DCC317B5A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chool Site Budgets Using the Evidence Based Adequacy Mode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ool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with mild and/or learning disabilities (3 additional professional teacher positions per 432 student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with severe disabilities (100 percent state reimbursement minus Federal fund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fted Students ($25 per student based on total school enroll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9693-BA44-4219-8E9A-3C3E91255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chool Site Budgets Using the Evidence Based Adequacy Mode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ool Elements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pil support staff (1 for every 100 poverty stud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instructional aides (2 for every 432 student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brarian/medial specialist (1.0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cipal (1.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clerical staff (1 secretary [12 mo.] one clerical [9 mo.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7A22-C014-46B3-9812-F899340ED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chool Site Budgets Using the Evidence Based Adequacy Mode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ool Elements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essional develop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d in above estim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ilitators/coach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summer days for planning and prepa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00 per pupil for other PD expenses such as trainers, travel, conferences, et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7D27-E7C3-4EE7-A80C-9C325C68E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chool Site Budgets Using the Evidence Based Adequacy Mode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ool Elements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ology -- $250 per stud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ctional materials -- $140 per stud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 activities -- $200 per stud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9EB1-8275-4C88-8EA7-8C25DD130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tents of a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ypical Budge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ncial Summary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ndi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n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on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anation of Expenditure Calc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D248-18B0-4937-90A4-17984AB23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udget Proces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of Budget Guide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intendent’s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dget Calend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delines for particip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dget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on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1C9A-3A20-496A-9ED0-07BB0E780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ass Outlin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Bu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aches to Budg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dget Prepa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dget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Stud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067C-97B8-46E4-A34C-E1CD37DD2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udget Proces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dget Prepa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rollment Foreca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ative pro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io and Correlation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ut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ltimate population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AFD4-F9C1-4ED3-9239-0CFB9C9AC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udget Proces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ng Personnel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cated Sta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Certificated, Non-Admin.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e Administ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al Office Administ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ified Sta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3E1F-EAB9-4173-9EF0-283F26CDC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udget Proces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ng Expendi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Specific Programs Around Which Budget is to be Constru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certain Resources Needed to Operationalize the Tasks Essential to Each Progr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 the Costs of the Resources Needed for Implemen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A903-F34E-4A99-813E-7EB97F87E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Budget Process</a:t>
            </a:r>
            <a:endParaRPr b="0" lang="en-US" sz="5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xpenditure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7CE9-922C-4C05-9854-12329F7C9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udget Proces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on of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y Ta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Reven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deral Reven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Sources of Reven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dget Mod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dget Approv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C021-DA7C-4E78-9716-4476660C5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istribution of Funds to School Site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dollar bud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nel allocations based on staffing rati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staff (site or district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enance and oper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k manag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 serv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2861-D803-46B0-8999-F76DAF6CC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istribution of Funds to School Sit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 Approach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ighted pupil methods (“fund the child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5 percent solu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7831-193E-4216-A657-ADF8ED219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tt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8.4% of resources distributed to sch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es on a weighted pupil formula plus a base allocation for each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n Francis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s allocated to schools on staff basis using average staff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revenues to schools based on student characteristic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 education is a central responsibility in both distric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E24C-9623-4D6A-B775-FE6F1E791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at is a Budget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document which specifies the planned expenditures and anticipated revenues of a school district in a given fiscal year, along with other data and information relating the fiscal elements to the educational philosophy, programs, and needs of the distric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rt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1CBA-A985-47FA-92B8-014253F49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udget Triangl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62" name="Object 1024"/>
          <p:cNvGraphicFramePr/>
          <p:nvPr/>
        </p:nvGraphicFramePr>
        <p:xfrm>
          <a:off x="1039680" y="1981080"/>
          <a:ext cx="706284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1981080"/>
                    <a:ext cx="70628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C461-CFA9-4A50-8C47-70B78E100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y Do We Need Budgets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Public Budgets Differ from Private Company Budge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y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es a Budget Tell U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o we C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F52A-7CEA-4077-AD20-8B3AF9A85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our Functions of a Budge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cy 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lects philosophy of school board, administration and commun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zes that philosophy in terms of resour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cial Pl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4742-B1C5-4CF2-B294-4C203A46B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our Functions of a Budge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s Gui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cal accoun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 accounta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nel accounta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s T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e strengths and challenges of education program with the commun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ws how educational dollars are sp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es the district’s programs and prior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3EE9-7739-4C98-A94D-32227F9C6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eatures of Classical Budget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al Adequ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9538-CDAA-47D0-9DBF-B924B0674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ass Activit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s review bu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the six features of Classical bu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certain how well budgets meet each of the six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strengths and weaknesses identified in the bu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8:14:27Z</dcterms:created>
  <dc:creator>AllanO</dc:creator>
  <dc:description/>
  <dc:language>en-US</dc:language>
  <cp:lastModifiedBy>AEURY</cp:lastModifiedBy>
  <cp:lastPrinted>1998-11-17T16:53:48Z</cp:lastPrinted>
  <dcterms:modified xsi:type="dcterms:W3CDTF">2011-06-12T19:52:48Z</dcterms:modified>
  <cp:revision>70</cp:revision>
  <dc:subject/>
  <dc:title>No Slide Title</dc:title>
</cp:coreProperties>
</file>